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7E8-BFCF-48DD-9AF7-C0B79FAA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78B-4CA5-46DB-BFA3-5C1E6486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1DE-3E5B-4048-AE2C-9234DE2F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7E0-B546-4BE4-A281-667584D9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159-6174-4C12-97CE-4FAE2FAA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B03-FD3E-4ED0-BF34-10E75AC0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50A-305B-4661-8A6B-A3947FE5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1B1-AC26-4F31-97EC-9E9CC19D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478-5FA0-441C-80EF-45571D78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866-DD1D-4B0F-AC6B-0080695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315-8BBD-49C4-81CA-FD63940C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F22-CCDF-4F4A-B2EF-E180F1F1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90EEEC-33D9-4D78-B1F5-D576CBB57B1C}" type="slidenum">
              <a:rPr b="0" lang="en-N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Projects F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362320" y="2133720"/>
          <a:ext cx="4975200" cy="34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33720"/>
                    <a:ext cx="497520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5913360" y="2967120"/>
            <a:ext cx="20271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ailure to define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1560" y="4613400"/>
            <a:ext cx="3440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ject Management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0480" y="3651120"/>
            <a:ext cx="1832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2203560"/>
            <a:ext cx="2000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 scop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51400" y="2127240"/>
            <a:ext cx="21477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ack of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2080" y="57150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urce: KP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16:12:27Z</dcterms:created>
  <dc:creator>Simon Wallace</dc:creator>
  <dc:description/>
  <dc:language>en-US</dc:language>
  <cp:lastModifiedBy>Simon Wallace</cp:lastModifiedBy>
  <dcterms:modified xsi:type="dcterms:W3CDTF">2002-02-24T13:02:56Z</dcterms:modified>
  <cp:revision>5</cp:revision>
  <dc:subject/>
  <dc:title>Why Projects Fail</dc:title>
</cp:coreProperties>
</file>